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B58-7B6A-4138-8FA7-A94D2103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3AB-D131-47E7-86FB-09EFA2D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174-540A-47C3-8664-BF106FCF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8DC-3F64-4408-A7B1-3674F892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58B-64B8-438D-9954-9817E56D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CA0-C09D-4C05-B0CE-BFF0801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B05-53B1-4B6C-9B2E-2D4FC10D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B95-7370-4FA4-8300-8F0B99C8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CDB-0479-4D4F-B277-940A1460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895-5CE4-42BB-8E97-0B54881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240-A8BD-4237-9F21-9652200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646-D0D6-4474-87CF-AAF463A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9038-9D7D-4F1C-919E-0AD3E93150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39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79640"/>
            <a:ext cx="79567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1298520" y="2494080"/>
            <a:ext cx="5291280" cy="461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19320" y="3090960"/>
            <a:ext cx="288288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0" descr=""/>
          <p:cNvPicPr/>
          <p:nvPr/>
        </p:nvPicPr>
        <p:blipFill>
          <a:blip r:embed="rId5"/>
          <a:stretch/>
        </p:blipFill>
        <p:spPr>
          <a:xfrm>
            <a:off x="5657760" y="2610000"/>
            <a:ext cx="288936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1403280" y="3900600"/>
            <a:ext cx="2664000" cy="20048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3" descr=""/>
          <p:cNvPicPr/>
          <p:nvPr/>
        </p:nvPicPr>
        <p:blipFill>
          <a:blip r:embed="rId7"/>
          <a:stretch/>
        </p:blipFill>
        <p:spPr>
          <a:xfrm>
            <a:off x="5657760" y="3949560"/>
            <a:ext cx="2889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6:21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